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FFE-D2F6-4782-BD18-7BAB41FD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366-81BD-4DE0-B3F2-9F6FC93D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E7F-0780-47D8-9811-6CD56B60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2B2-E8A9-4148-A084-BB8AC343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46A-4CFF-4D55-9729-2586E767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716-0FD0-4102-8B7A-74ECB1A8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09A-BE55-4A86-9F96-2E7C5023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905-D691-4A04-8ECD-304AA910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F8F-9988-421A-BB41-15CD5466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9C1-269C-4F7D-8EAA-DC6E5D2F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6FA-AC0E-4ED3-9696-F0F22254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EDF-D570-47AF-B97A-FCE3AF6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3C35-3032-4797-ADFC-54D917D5D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omated ADT Interf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sion .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98989"/>
                </a:solidFill>
                <a:latin typeface="Calibri"/>
              </a:rPr>
              <a:t>As of March 15, 2017</a:t>
            </a:r>
            <a:br>
              <a:rPr sz="1700"/>
            </a:br>
            <a:r>
              <a:rPr b="1" lang="en-US" sz="1700" spc="-1" strike="noStrike">
                <a:solidFill>
                  <a:srgbClr val="898989"/>
                </a:solidFill>
                <a:latin typeface="Calibri"/>
              </a:rPr>
              <a:t>by Lee J. Hirz</a:t>
            </a:r>
            <a:br>
              <a:rPr sz="1700"/>
            </a:br>
            <a:r>
              <a:rPr b="1" lang="en-US" sz="1700" spc="-1" strike="noStrike">
                <a:solidFill>
                  <a:srgbClr val="898989"/>
                </a:solidFill>
                <a:latin typeface="Calibri"/>
              </a:rPr>
              <a:t>(and the VA Interface Development Team)</a:t>
            </a:r>
            <a:br>
              <a:rPr sz="30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Event Protocol (File 1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VAFH A01                          TYPE: event dri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OR: USER,VISTA                   PACKAGE: REGIST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: VAFH CLIENT A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TAMP: 57366,56491                SENDING APPLICATION: VAFH PI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 MESSAGE TYPE: ADT         EVENT TYPE: A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STRUCTURE: i                  PROCESSING ID: 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CAL LINK: VAFH ADT                APPLICATION ACK TYPE: 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ID: 2.2                       RESPONSE MESSAGE TYPE: AD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ROUTINE: Q                 RESPONSE PROCESSING ROUTINE: 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BERS: VAFH CLIENT A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requi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tA patches released many Event Protocols that are necessary as well as routin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try point CHEKPTCH tests the destination VistA system to make sure the prerequisites ar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KPTCH -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:30 P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firming precursors that are necessary to implement the interface exis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or problems the report will say 'Not found.####' or a longer error messag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hecking for Patch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tch HL*1.6*93 is install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tch DG*5.3*91 is install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hecking for Protoc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.  Protocol:DGPM MOVEMENT EVENTS: (IEN=1532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.  Protocol:SDAM APPOINTMENT EVENTS: (IEN=2087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.  Protocol:VAFC ADT-A01 SERVER: (IEN=5322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.  Protocol:VAFC ADT-A02 SERVER: (IEN=5323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.  Protocol:VAFC ADT-A03 SERVER: (IEN=5324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.  Protocol:VAFC ADT-A04 SERVER: (IEN=5298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.  Protocol:VAFC ADT-A08 SERVER: (IEN=5299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.  Protocol:VAFC ADT-A08-SCHED SERVER: (IEN=5344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9.  Protocol:VAFC ADT-A08-SDAM SERVER: (IEN=5342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KPTCH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0. Protocol:VAFC ADT-A11 SERVER: (IEN=5325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1. Protocol:VAFC ADT-A12 SERVER: (IEN=5326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2. Protocol:VAFC ADT-A13 SERVER: (IEN=5327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3. Protocol:VAFC HL7 INPATIENT CAPTURE: (IEN=5338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4. Protocol:VAFC HL7 OUTPATIENT CAPTURE: (IEN=5339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5. Protocol:VAFH A01: (IEN=5302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6. Protocol:VAFH A02: (IEN=5304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7. Protocol:VAFH A03: (IEN=5308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8. Protocol:VAFH A04: (IEN=5309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9. Protocol:VAFH A08: (IEN=5310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0. Protocol:VAFH A11: (IEN=5305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1. Protocol:VAFH A12: (IEN=5306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2. Protocol:VAFH A13: (IEN=5307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3. Protocol:VAFH A19: (IEN=5321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4. Protocol:VAFH A34: (IEN=5311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5. Protocol:VAFH HL7 INPATIENT CAPTURE: (IEN=5300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6. Protocol:VAFH HL7 OUTPATIENT CAPTURE: (IEN=5301) ex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is site currently allows HL7 2.3 messages to be s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&lt;&lt;&lt; END of Check &gt;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tall sets up all the necessary new records in the following f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L7 APPLICAT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L LOGICAL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connects it all together with the already installed HL7 infrastru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Initial Prompts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 INSTALL^ATYMU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:36 P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is is the beginning of the implement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ew records will be created.  In order to conform to site conven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ease specify the string that will be used to prefix all new record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sing the default, 'BOS-DEVX', will mean all will begin with 'BOS-DEVX'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 the Logical Link the default would be 'BOS-DEVX-ADT'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ter a prefix for all the objects to be created: DEVX// XXXX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XX4 will prefix all new ent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 instance, the HL Logical Link will be named XXXX4-AD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Initial Prompts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use an existing HL Logical Link instead of XXXX1-ADT SELECT it no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an existing HL Logical Link is NOT selected, XXXX1-ADT will be us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you do not want to use an existing HL Logical L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swer NO to the next prompt and XXXX1-ADT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swer YES to be prompted for an existing HL Logical Li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ur answer:? NO/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the answer is “YES” there is a prompt to choose an existing HL Logical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Initial Prompts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uld you like to change the HL7 ENCODING CHARACTERS? NO/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uld you like to change the HL7 FIELD SEPARATOR? NO// Y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er the new HL7 HL7 FIELD SEPARA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 CAREFUL !!!  What you enter here is not error check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our answer may include a "^" or any other displayable character: ^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Initial Prompts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ease review the below list of names (to be used for this implementa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ite currently allows HL7 2.3 messages to be s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XX4-ADT-A01-Client -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XX4-ADT-A02-Client -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XX4-ADT-A03-Client -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XX4-ADT-A04-Client -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XX4-ADT-A08-Client -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XX4-ADT-A11-Client -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XX4-ADT-A12-Client -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XX4-ADT-A13-Client - will be set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K to continue? NO// Y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dd ITEM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HL7 PROTOCOL 'VAFH HL7 INPATIENT CAPTU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' to EVENT DRIVER 'DGPM MOVEMENT EVENTS': EXIST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dd ITEM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HL7 PROTOCOL 'VAFC HL7 INPATIENT CAPTU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' to EVENT DRIVER 'DGPM MOVEMENT EVENTS': EXIST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dd ITEM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HL7 PROTOCOL 'VAFH HL7 OUTPATIENT CAPTU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' to EVENT DRIVER 'SDAM APPOINTMENT EVENTS': EXIST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dd ITEM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HL7 PROTOCOL 'VAFC HL7 OUTPATIENT CAPTU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' to EVENT DRIVER 'SDAM APPOINTMENT EVENTS': EXIST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dding Mail Group XXXX4-ADT - DON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&lt;&lt;&lt; ADDING HL7 Application Parameter XXXX4-ADT:  -- Success !!?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XXXX4-ADT updated in file 771 (HL7 Application Parameter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&lt;&lt;&lt;       ADDING HL LOGICAL LINK XXXX4-ADT into file #870:  - Done.   &gt;&gt;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cess enables ADT HL7 messag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frastructure for ADT Messaging is implemented by setting up an HL7 Application, an HL Logical link and protoco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tocols are subscribed to Event Protocols that have been nationally released in the VA as part of standard patch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L7 messages will be received by an External  server which will create and/or update patient records in its datab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is uni-direction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ults are not automatically return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eparate, ancillary set up can be done to facilitate reception of resul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(Continued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ing Protocols to the PROTOCOL file (101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ol XXXX4-ADT-A01-Client: CREATED and upd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ol XXXX4-ADT-A02-Client: CREATED and upd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ol XXXX4-ADT-A03-Client: CREATED and upd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ol XXXX4-ADT-A04-Client: CREATED and upd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ol XXXX4-ADT-A08-Client: CREATED and upd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ol XXXX4-ADT-A11-Client: CREATED and upd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ol XXXX4-ADT-A12-Client: CREATED and upd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ol XXXX4-ADT-A13-Client: CREATED and upd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stering created protocols with HL7 Version 2.3 EVENT protoco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AFC EVENT DRIVERS are for HL7 version 2.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AFH EVENT DRIVERS are for HL7 version 2.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(Continued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XX4-ADT-A01-Cl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 XXXX4-ADT-A01-Cl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VAFC ADT-A01 SERVER/VAFH A0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 SUBSCRIB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L7 PROTOCOL 'XXXX4-ADT-A01-Cl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' to EVENT DRIVER 'VAFC ADT-A01 SERVER' - O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XX4-ADT-A01-Client (V2.3) NOT registered to VAFH A01 (V2.2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:38 P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&lt;&lt; Processing Complete; review output; follow instructions.  &gt;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(Continued 4)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it HL7 APPLICATION PARAMETER 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ease review the HL7 Application Parame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nd make changes if they are not correc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ter XXXX4-ADT for the na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L7 APPLICATION ED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AME: XXXX4-ADT                     ACTIVE/INACTIVE: ACTIV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ACILITY NAME: TEST.WASHINGTON.MED.DOMAIN             COUNTRY CODE: U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L7 FIELD SEPARATOR:                       HL7 ENCODING CHARACTERS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IL GROUP: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it    Save    Refresh    Q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ter a COMMAND, or "^" followed by the CAPTION of a FIELD to jump 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E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ress &lt;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all (Continued 5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&lt;  Please EDIT HL LOGICAL LINK XXXX4-ADT.      &gt;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&lt;  The IP address and port of the receiving    &gt;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&lt;  system needs to be added.                   &gt;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&lt;  (OPTION: Link Edit - HL EDIT LOGICAL LINKS  &gt;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Castellar"/>
              </a:rPr>
              <a:t>THE END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mmary of Step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: In order HL7 messages to be sent from the VistA TaskMan node to the external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AC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the ACL with an HL7 Logical from VistA TaskMan n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Implementation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 option ATYMUSE-PRECHECK (HL7 ADT IMPLEMENTATION PRECHEC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 option ATYMUSE-INSTALL    HL7 ADT INSTALL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IP Address and Port to HL Logical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Link to start sending.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set up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L – needs to be set up and confirmed – important information is correct IP addresses and ports of both the external system service and the VistA TaskMan n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rnal server – needs to be able to receive VistA-style HL7 messages and transmit them to the carts properly.  Sometimes the technical support will need to do some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Works in Vi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L7 Messages are generated for ADT trans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the ADT Clients are subscribers to the ADT protocols the messages generated for them go into the HL7 transmission que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L7 queue is transmitted to the external server(by establishing a TCP/IP channel to it’s IP address/p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each message is transmitted (and acknowledged), the number of items transmitted is increased until it matches the number of items to  transm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it works on the External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rvice on the server “sits” on a port waiting for a TCP/IP connection requ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tA HL7 module requests a channel to that p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rt “wakes up” the HL7 receiver (service) and accepts the transmission and acknowledges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ccepted/acknowledged messages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d into the server application datab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patient information is transmitted to the appropriate ca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he patient information is received users can look them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stA HL7 APPLICATION PARAME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XXXXX-ADT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E/INACTIVE: 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TY NAME: 6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IL GROUP: XXXX4 INTERFAC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RY CODE: US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L7 FIELD SEPARATOR: |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L7 ENCODING CHARACTE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L LOGICAL L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00200"/>
            <a:ext cx="876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leMan Inqu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: XXXX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LP TYPE: TCP                         DEVICE TYPE: Non-Persistent Cli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 Retention                      TIME STARTED: DEC 28, 2015@08:39: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SK NUMBER: 5348152                  SHUTDOWN LLP ?: 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 SIZE: 10                        RE-TRANSMISSION ATTEMPTS: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TIMEOUT: 60                      ACK TIMEOUT: 3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ED RE-TRANSMIT ACTION: restart    TCP/IP ADDRESS: IP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CP/IP PORT: PORT                     TCP/IP SERVICE TYPE: CLIENT (SEND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ISTENT: NO                        IN QUEUE BACK POINTER: 153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 QUEUE FRONT POINTER: 15386         OUT QUEUE BACK POINTER: 156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 QUEUE FRONT POINTER: 156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Transmission Protocol (File 10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XXXX4-ADT-A01-CLIENT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TEXT: XXXX4-ADT-A01-Cl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subscriber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OR: HIRZ,LEE 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: Sends ADT 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TAMP: 63929,39364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ING APPLICATION: XXXX4-AD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 MESSAGE TYPE: ADT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 TYPE: A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STRUCTURE: ADT_A01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CAL LINK: XXXX4-AD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irz, Lee J. (ESL)</dc:creator>
  <dc:description/>
  <dc:language>en-US</dc:language>
  <cp:lastModifiedBy>Department of Veterans Affairs</cp:lastModifiedBy>
  <dcterms:modified xsi:type="dcterms:W3CDTF">2018-04-03T14:39:09Z</dcterms:modified>
  <cp:revision>28</cp:revision>
  <dc:subject/>
  <dc:title>Automated Clinical Procedures Interface Version .02</dc:title>
</cp:coreProperties>
</file>