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CE5B-9B32-480A-A0B0-4A126479C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6240-0537-41F2-B655-9C74D0488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E745-8907-4EFE-8D81-4549586C6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EBE-FF74-432B-BC00-BFED7831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636-6575-4379-A856-E9929BA0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F1E-91D9-4120-B086-79A96DEF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1FC-D4B7-44C7-8F96-6CE2EF2A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BF2-F5AF-452D-A90F-9441D286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3E6-CC6B-454A-B7FC-29C8227F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C27-2084-4D1D-A755-D46779DF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DBF-3E42-4153-9437-04C7961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875-CD52-4A43-9C86-2A6BBD9E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E1C-610F-4687-9030-65E1D9B5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2E9-6781-4B7D-9D2E-42A3250C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2B3-4104-49A3-9434-3CB3E889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3325-24AD-45D4-8D18-D7552E6FC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9144000" cy="388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Using SQL Server to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Generate Data Dictionarie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&amp; to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apture and Preserve Metadata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741560"/>
            <a:ext cx="91440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ane Lop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How it works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08080" y="1179360"/>
            <a:ext cx="1169676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582560" y="395280"/>
            <a:ext cx="902664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98000" y="627552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etadata Storag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60336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Outpu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(auto-generated DDs for ED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726320" y="1619280"/>
            <a:ext cx="368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ill-down enabled report contain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tion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umn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file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tion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2995920" y="37036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 Reda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60336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(auto-generated views containing metadat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7824960" y="1619280"/>
            <a:ext cx="35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-stamp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d views contain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-level meta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umn-level meta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847800" y="1741320"/>
            <a:ext cx="62974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opics for Discussion: Next Step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need credentials for access to vendor data sources (global service account or SQL Server sys admin accoun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we use SSRS for generating CDW metadata report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 archiv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c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or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DF (no an attractive optio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we use the time stamped indexed views for detecting metadata changes? Ho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do we store field definitions and table description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D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other Data Stor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QL Server Extended Properties (target DBs only!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ther alternative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do we log SSIS exceptions/event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pplication Logs accessed through Event Viewer (w/Overwrite or Archive when ful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ata Store (w/ cleanup job or persistent storag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ther alternative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9:50:44Z</dcterms:created>
  <dc:creator>Duane Lopez</dc:creator>
  <dc:description/>
  <dc:language>en-US</dc:language>
  <cp:lastModifiedBy>Jeremy Nobles</cp:lastModifiedBy>
  <dcterms:modified xsi:type="dcterms:W3CDTF">2015-09-17T12:00:05Z</dcterms:modified>
  <cp:revision>23</cp:revision>
  <dc:subject/>
  <dc:title>Capture a SQL Server DD at any point in time!</dc:title>
</cp:coreProperties>
</file>